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D643-75DE-4919-9960-648FCDD1B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ol slidde isnt it nickkkkkky boyyyyyyyyyyyyyyyyyyyyyyyy haha          whats up mitchayyyyyyyyyyy buoyyyyyyyyyyyyyyyyyyyyyyyyyyyyyyyyyyyyyyyyyy !@#$%^&amp;!@#$%^  ewr nicky buoyyyyy hasdsadds nniicckkyy bbuuooyy haha nicky buoy yeh bouyyyyyyyyyyyyyyyyyyy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5FF18-B519-48AC-88BC-91A04F11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EEB9C-F9CF-4911-8700-7D77CF57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B725F-0C89-42FB-B6D3-39A2C716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9415E-77EA-494E-8833-BFC6E1C8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4806-6D73-4A43-B18B-817FB056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05F4-E3D8-43E8-9869-4A01D521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F4A5-4062-4D85-B1D2-16D632F2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06C9-58F7-41EB-8B5B-BAB6300A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72EB-BCCB-4187-ABBA-18300B6A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135E-121E-4AB0-9701-85648189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AF6E-5238-4A93-BBD2-BEC427E3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DF162-511A-44D3-B3C8-71F03523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40EF-62C4-4E22-9911-23FAB5ED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221E-3A30-4380-8F39-71EC8CBA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6A2A-4116-4BA1-BE01-402027AD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2100-A19E-4DAE-8A43-BAEEDA4A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FE80-4026-48A4-B133-55CD5E64B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9E373-FEA2-465D-AEDB-285F3584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4B73F-984D-47E5-B485-CDC1702E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5838F-9E5C-4617-922D-17001B4F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472AF-03C6-4CAA-9721-061E69CC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89DAD-FDC8-470E-B8DD-61B0CAE5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BFDF4-627D-4E26-A992-02E4CE82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8B644-37AC-425A-A083-CBCF0ED7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C8A0-2154-415D-A099-97CB830B75F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0AFA-47C5-4898-B799-691A0305E2A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Las Comida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Jared O’Bri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l Desayun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28800" y="565200"/>
            <a:ext cx="601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30492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El Desayun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53341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Me gusto como  El Ce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43434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Yo como El Hue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46483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Yo bebeo El Café De Sol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27432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Me gusto bebo Los Ju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5410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Yo uso El Tened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5181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ahoma"/>
              </a:rPr>
              <a:t>Yo uso El Cucha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57800" y="28954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e gusto como un bu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ñel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91440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Tahoma"/>
              </a:rPr>
              <a:t>Me gusto como creci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43800" y="12193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ahoma"/>
              </a:rPr>
              <a:t>Yo como le pan tost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2971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ahoma"/>
              </a:rPr>
              <a:t>Yo como Los fres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2819520" cy="23385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895480" y="533520"/>
            <a:ext cx="297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00"/>
                </a:solidFill>
                <a:latin typeface="Tahoma"/>
              </a:rPr>
              <a:t>El Amuerz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276720" y="4419720"/>
            <a:ext cx="2243160" cy="2562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5791320" y="228600"/>
            <a:ext cx="3352680" cy="2673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rot="2374800">
            <a:off x="608400" y="510516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ahoma"/>
              </a:rPr>
              <a:t>Me gusto una hamburgue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9945200">
            <a:off x="3581280" y="388584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Yo como los papas frit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197000">
            <a:off x="6248160" y="29718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Tahoma"/>
              </a:rPr>
              <a:t>Me bebo una Coca Co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7535880" y="4495680"/>
            <a:ext cx="1827360" cy="2362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 rot="19960200">
            <a:off x="5867280" y="59432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Tahoma"/>
              </a:rPr>
              <a:t>Me gusto papit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296280" cy="6932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400800" y="0"/>
            <a:ext cx="2895480" cy="2185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95480" y="502920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819520" cy="2052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124080" y="2286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Rockwell Extra Bold"/>
              </a:rPr>
              <a:t>La C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9635600">
            <a:off x="2895480" y="4038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Tahoma"/>
              </a:rPr>
              <a:t>Me gusto una ensel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0" y="2438280"/>
            <a:ext cx="1486080" cy="2514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8600" y="5562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Yo bebo una Mountain De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487400">
            <a:off x="3200040" y="45684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Tahoma"/>
              </a:rPr>
              <a:t>Yo como papa al hor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20297400">
            <a:off x="6553080" y="2666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e gusto la bifte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895480" y="13716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 Post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4019400"/>
            <a:ext cx="1581120" cy="28386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rot="858600">
            <a:off x="1676160" y="60955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Yo Como un helado de sunda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838920" y="5318280"/>
            <a:ext cx="2305080" cy="1539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rot="19587600">
            <a:off x="6324840" y="44953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e gusto pastel de manza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13:30Z</dcterms:created>
  <dc:creator>obrienjar</dc:creator>
  <dc:description/>
  <dc:language>en-US</dc:language>
  <cp:lastModifiedBy>obrienjar</cp:lastModifiedBy>
  <dcterms:modified xsi:type="dcterms:W3CDTF">2012-04-05T17:10:59Z</dcterms:modified>
  <cp:revision>4</cp:revision>
  <dc:subject/>
  <dc:title>Las Comidas</dc:title>
</cp:coreProperties>
</file>